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DA4-5CAE-44E0-AFC5-152FE2842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122-92DF-4703-A7BB-B8877E5317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CEF-E152-4359-86EC-D9F8FBA2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DA1-4E16-4E58-B295-44711EA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980A8-C844-428F-A6C2-A36E8AB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D6032-70B9-4654-B7A6-2812756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3AD08-1AAE-4DE2-B3BF-28AC933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100AF-0075-4BB9-9D45-56A4DDE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228AC-37F8-4E7D-9BAE-C83D9BC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3C7DA-A9F4-4F38-9963-D803D91D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6A3C-C014-44EE-991D-3514955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33BE-22F9-470F-8224-50534A4B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04DB-D658-45BF-B707-3CA96588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4EE5-11E3-42CF-94C7-3B16A07F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500-2AAE-4D73-8818-499F0E0C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CC91A-9A0C-49E6-B1B1-A00FDC3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0BCEE-D828-44C5-9D71-7660B36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E447-05AA-4BB2-81D8-EF1EDF8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701D-6231-42AE-AF30-2FCA7FC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306CC-C24E-4837-AF9B-4877A57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50294-9297-4D71-A3FC-1A30916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EA17A-3DC8-4FEB-919B-6117304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9CF4C-58B7-4579-B36F-FD0DF98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F0DC-82E6-402E-91C5-43E548A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64515-27D1-4D1E-817D-198B8B46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B36-1904-43A1-832E-CB184FE7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2E3D5-0698-46B1-A97C-28D4CBD3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E24C88-1A32-4AC4-A945-143F99F6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C239BC-3583-4C46-929B-890E4EB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C10678-0060-442D-A65E-71C1A7B6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6C628D-0E19-4BB1-8828-759236F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1D6B67-932C-4AE8-8759-48CF5EB4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73C6E8-4CBA-4517-881A-B49C2BC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F1A8E9-C6D2-4E15-9AE5-8FFDE80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AEF8E-C827-4CE1-A2E2-A221431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5680FA-D010-4604-96D5-AB02533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80EF-0BC6-4260-AC8B-611BD281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54F51-D73B-4381-9B19-A14C2E7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15F925-95CB-456D-8872-628E385D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169932-2327-4283-B70C-892014BA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DC6E9-7227-4A87-96A6-4EFE4BFB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13C642-1E6C-4F2E-BEFF-DF72A20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AF0446-3D2E-4112-85E4-DD463603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49A44E-3892-4581-8E81-84B54E69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722FE5-2214-471D-9E79-20B189A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2CCC7E-AE2A-4B32-BF1F-FEB8C1B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F6204F-0B47-4553-AE21-94B28EC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ECD2-8012-40F5-8558-29585D5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D72E0F-AFB2-43B4-B6B9-4707201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3D90CB-FF82-43E1-9044-7FE285E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896CF4-CD0B-4E1B-84B4-386E0D9B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1430E6-7D41-4F54-B7D3-2C82D803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4E7F55-95D3-4B5A-A7E1-71F2E099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7B6B4-9D2A-4539-BA1D-C7EA747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650672-E48C-468A-901B-1776155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FAF74-EA9C-4C51-96AC-AF0D188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35AB5B-708E-4CDC-BF98-450D8C4D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7FE871-6A74-4623-ACD0-6D992430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6E0A-2D4A-4625-B642-8919C18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FCC00-263E-4B18-ACFB-0721E35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9C72F-07D8-4869-B96A-B2287EE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AB58B-025A-4DC3-A625-097B810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759F2-C890-4B88-A47F-E83DDAF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E18475-A496-4F3F-BC3C-D806F70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30F23-493A-45C7-BDE1-8AFBC945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BE2F27-A20F-444F-ADE7-A8D13B9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A09C4-4D11-4A5A-B4C8-39AAC210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8874F-57EA-4DB1-9297-4AFD14E0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71CF6-2647-488E-81FF-1492AF0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B3C-4D98-43AB-ABE9-2E98FC0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11F63-2FED-4BFB-974D-15EA318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22817-C0FA-41A7-AEC4-EE0D2DC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1D0E5-0436-4705-A17A-C29B990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8A941-832D-4660-B1EE-8493FCA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08AD0-B74A-48EF-A6D9-A99AAFFB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005F0-88B7-4537-AD32-E287B0D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15DC8-F428-45BB-9B1C-858117A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74CC5-ADF8-43AC-AAEC-F09D7503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C1638-C3C7-4A1A-80DF-2745D75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D8B577-CC07-414E-B891-9A37D958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587-C130-42AC-9677-5C236E6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B37FD0-2FC1-4200-9C40-EE69CBE3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B87D14-AD93-4760-BB11-0F1CEA8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1CB51B-3F8A-4FCA-895C-ADC63F7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730AEA-78B5-4984-9680-24191E72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4392C3-263C-4233-BC37-7BBA0E24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6A59A2-7389-4AC1-955B-058B438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7CA36E-3C27-42C7-BE6D-E291087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DD3DC2-3A3E-48B0-BEA6-075646A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84A5F7-78C2-4E7C-90A9-6FC9214A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A29637-FF91-4CEA-974C-26706CAB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DDB-2011-4C9F-AA2C-D12D360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92F7EE-73BE-4392-A73A-9393857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F4771-3AED-4AEA-A096-223FAE30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25A19-5465-44A8-897A-8E4C1DC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242A1-6FE0-4928-AB8F-ACF1B33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79C53-BAF4-4FAE-AE35-CE3238D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8B7D9-E579-4E1F-83C0-649EA99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E7E59-B007-4B24-A1E5-60FF5BC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DB1D6-E321-46DA-A8EB-9447291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3DBCC-ABDD-4D22-AAD0-5052114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3509B-8CD0-4C0F-B1F7-ED10283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6F58-0B42-4D7D-93ED-066DE7B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16859-F9B7-4B2A-8789-5FA3D3F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AF8D5-90EC-4379-9F4B-0A475D64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979D3-4C78-4FC8-B933-D77D329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21B7A-A907-4644-82F5-1D4D3423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544FF-8D1A-4D42-BFAA-65641123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784A4-C014-422F-9297-0871418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D7009-A460-443F-AA1F-5227075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FC93B-3403-420F-B3E4-D1D638B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CD322-8194-45DD-9571-F1C22A9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D8ED9-0589-4EFE-A404-7FBF0FF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C71-D2CC-469D-AE55-CA4C349E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81A-98E0-4F2B-A77C-2EFFA9FE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C980E-8A2A-4EF9-B6C2-4FE9744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33B47-EFAE-410E-9A34-6C63617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82A85-B725-43A8-8DBF-DCD220E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831BE-052A-4694-BB78-2B84A8D8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912D7-4943-473C-BB92-64754FCE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1C1F6E-84FF-4C55-8854-9E7F8392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611276-6A4F-4636-9EF4-3C9F2D1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068E96-74E0-4962-B77C-EF6D5010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F5DDD3-8250-4367-BB1F-B50A876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B9E769-E100-4E5E-B9AF-EA854BED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8EEF-A328-4E1F-A523-AAC92F2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AF0831-4339-48E3-9E98-82D153F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948DA3-E128-494D-B739-D300594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62B8BC-3E79-491B-BCD3-7506736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E19BF1-DDC5-4AA9-8865-EBA66FD0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73D7F9-FFB8-4941-87CD-212603C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FA3115-3EF7-46B0-81DF-EEF5E69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15F659-FACC-41CF-BC95-963C470D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E36E29-37A1-4B6B-8A5E-6DDB1D46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1D0AE4-4DC8-4050-8C67-D1A1640E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9654CC-0E12-4690-B4C8-79B2701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E50-5B6E-4D9E-A39F-7B64774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5D4396-C6D1-4F81-AA6C-062C185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3B2B4C-9C59-4181-95E2-FD4EDF8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574B2B-3EB2-4410-BECE-70AB5E9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CCCAD5-46DE-4B27-83D4-B6CCF90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10DF40-B025-437D-9E54-06E0F29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3FF057-1285-4D7E-8C4F-14B0678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B30535-FA82-4561-AF1B-5CC487CA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C87717-A6E4-40B5-BEEB-C2CEA9F1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6406AC-E7EA-41F1-B7FE-C13C719F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2F2B50-E29D-44E1-8B72-744C6846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48B-9D37-4B43-AD03-653B8C2B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110FC3-E0D0-4BBE-A668-6CC7D0A0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0DCD7A-7D83-4151-A9FA-D516DF8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6D058E-0ADD-4163-A520-9BD9A86E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BF0B41-EC7E-4595-B795-70C71C3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7EEA3E-05CC-4AFE-97F2-86AE223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F7CB0D-E012-40F6-8551-E27AF00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49F072-3ACC-4119-B8DD-39F2F92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751FCD-E70D-4DC7-9757-E9711C3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A2A200-2849-4A85-9EF1-131C21B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905A9D-AFE4-4EF7-9E0C-290DE205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8F3-E196-47C7-9E5E-DFE1AC2D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B9D6E7-1493-4E4B-8683-DA07F4C4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931D7-DFD8-4F43-AF7C-917234F7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7AAF4-8A94-4A62-8866-D59F1AF7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D111B-0DDF-4422-B75C-25C823E4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F77CD-276B-4AF2-A8AA-2363E15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D55C7-53DF-4347-826C-86186BF8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2E69F-46CE-41C6-A9C2-3920008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13151-0B6D-4934-AC33-8BA8C83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48B27-15CD-4BD8-B6C9-AAD9D20C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A8D44-587D-494C-8462-38DCA3C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ABA8-1D41-4E6E-9E6B-D109B5C6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40B89-C998-4A8A-8DCC-64C7FFAC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823BC-2FEC-422A-82E8-ECFD3C0E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454CB-A3C8-4DF6-AA85-504DE4CA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374F2C-9D88-413E-934A-DD861318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B5F17F2-D9D7-4D3C-AD2E-00A0BA52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0A8CB20-80EE-48C7-B5C5-06AF35E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1F8C4F-78A7-48C8-A266-61A6AB8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FA0952-9BF1-4AF4-A096-29F0C67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6E0609-2AC0-4F3B-9337-34CD487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2B8235-06EA-42A6-8F42-ECDE456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913C-EB30-4553-B5E7-C178C42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6DFAF3-0F59-4979-9DCF-9146F5BD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949744-AAFF-4B54-B634-0A22C74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F0E000-F184-4754-85A8-54C2D13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0B5284-3E0C-420A-A192-DE3BDABD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F314EC-411A-47C9-BF7C-9A488B33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9DFA38-B712-475E-9584-84D79AED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4E5C14-0BB6-45C8-ABA7-C2DDD74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C40998-79A9-49DA-AA0F-D515A4B4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8FEA9F-0E3E-4953-BD1D-7145695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C073F4-CD10-433C-A9A7-8C87031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9DEB-1457-42C3-A2BF-18AA0D5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89901-7724-4CCF-94F9-ACA3962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41D12-A1B1-4E4D-93C5-023D535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214C7-4932-4A30-A008-A5036B2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4F88F-A845-4533-8DC3-0BB6B443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80FAE8-C306-4ECF-9E3E-64673EC5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F45CF7-0F71-43B6-BBAC-CC500B1B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998EEF-CE44-4C77-9534-B19EBF96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5314-41F0-4087-A278-6983D09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7FCF-B062-43CE-AB41-68FD143E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E1A-4D7C-4233-B1E9-1112D1D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F894-D717-4150-924B-9AF0DA2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C01E-D627-4792-84F5-D83A798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4201-3B3C-4AB7-9ECE-86A2ED0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4E9E-C6DA-439C-8283-0697CFA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4D5D-5FAC-4F85-AC28-E0C9AD5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FEE2-53D5-4E09-87FD-713F3936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CA06-0E88-47C6-8A87-BF59A774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658C-500C-44F9-8A72-75D38567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2BD4-E088-4C92-84E6-2C6CEF1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2BD1-0A15-40C9-A770-538D7CB1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F51-15C8-43D8-8A00-B6DD2C26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ADA6-6666-47EA-850E-ADF2CDE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C24C-BA87-4DED-90FA-50CA997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7EE5-658A-4AF1-8C64-1F19C6B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03AD-EEBA-4280-90D1-E01BE08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C454-8FD3-4C76-9A59-4AF82F9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9BEF-CD86-4B66-870E-552CD14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A69A-7BD8-4095-87C2-EA4E7238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F483-ADC6-4179-85BE-F8C9B2AA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242B-72AD-443E-81F9-EA6645BE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7AEC-1BD7-4A8E-8F11-BED2FC28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3D-9302-440B-BAE3-47486A0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A88D-F584-4620-88B2-272FF50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6B5C-10B4-4124-8424-B2228DB6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4734-AAA8-472C-8D02-C050A563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6782-6C2E-4F55-A05F-30A558FD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A0378-9B36-4F79-8D49-E3BBF27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3298-2D7C-48DD-BCEB-CFDBF8D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5FC3-F491-41DF-A1B1-361151B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C8C5E-710D-4796-A6A4-0EA501F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D316-8A2B-4888-AAAD-7093A75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29B2-E17C-4B45-8F60-140CDD58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0B6-A72D-4D36-88E5-AC393182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B3AC-E939-4488-A8A6-3E16D33F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B2A3-5C58-4D8A-8473-966E8E86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CAE4-C552-4C23-B99E-B0E59E7F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3A3D-50A6-4B35-9133-59101DA1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56D7-17B7-428B-ACB5-1CD240A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EEC9-242A-40DB-8605-723F914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FED3-0C61-481A-8E2E-5F9BE3C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2BCF-F13A-4FEA-BEB9-57E203A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EFA7-A9D1-4052-8A2B-9D03C69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9A7D-0CA5-4A79-86CC-27AD6F1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223-139A-4E5B-9CC1-F96B69A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458E-63D5-41D5-B711-1AD4393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A637-BEA3-4615-B5FB-79DA61A0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2EBC-B2B3-43C4-BAE5-94386E6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BBEA-0CD3-48A2-BEA6-E636F70D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693EA-3403-4383-A43C-FBF805A9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4CDA-45A4-4675-8FA7-3FA5FD9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FA6B-D91D-428F-911B-A046C18E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B438-66A3-46B1-85CD-7D98B79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31BDE-37D7-4513-BF3D-D31E2E6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A1B92-33E0-4D92-ADFC-08A1E29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72F-16F9-4E0B-BFB3-C8CE437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64E1-21AF-4E88-85D0-0562B91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6B22A-BEDF-4C67-98F2-270E46B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1CCD-C208-4517-A37E-87175F3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FDF0-EA48-48A5-A1B1-5508282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B3A4-5B68-41ED-A64B-1630D8FB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FBD1-C300-48F3-8483-34E072E1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7AA31-56C6-4AC5-AF6E-A915BC9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F1FA-C4B8-42D8-AB06-FE5A43A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3685-779C-4421-AE86-571A1AEF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4AF5-8FE5-4A31-9E62-75E9506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6CC-D08F-4C2C-A5E8-131B56DD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D43A-BC1A-4460-93C5-7CA81FE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5671-8CE2-467A-A42D-C9DB7E9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68B2-C24C-4E5B-A0FA-6104A19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2AF29-5DCF-4756-AD4E-9F75499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DA1B-0D38-402A-B0C0-91955F9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18ACB-3864-4532-91A5-4C14F285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987A-6D70-4771-8D82-79CB894E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1C2F-628A-4A55-B8CF-645C707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7029A-3CC4-4C68-BF0E-71635F9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8454-37DD-4484-ABF6-6C8FCCA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E72-625A-44E5-B572-3C2AE7EDFB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CD5-6EFB-4720-941B-AF7F8BE5F8CD}" type="slidenum">
              <a:rPr b="1" lang="en-US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32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F1DE-C389-42A0-9EBB-75826F9F6582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82E-4904-4C70-B93F-2DBFD6A0723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D88-F7F0-4DE0-89E7-64DC6329A3C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4D7D-194A-4A63-8E1D-0270C4D321AD}" type="slidenum">
              <a:rPr b="1" lang="en-US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0E8-14D2-4AB0-A906-C26CAEC48DC4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2EA4-899E-4062-9D8B-71C82C22C1B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3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A294-CAF7-492A-A55D-6F88CEF0E0CC}" type="slidenum">
              <a:rPr b="1" lang="en-US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5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493-61D6-48DA-AE78-6B90D2B10E22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5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5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702-9918-49D6-BBA4-383E501E697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ftr" idx="5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1470-4F81-48EE-880F-727F718765D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sldNum" idx="5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535-F920-4A7F-8021-C18B8755D35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ftr" idx="6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CB39-8297-4DC9-BF51-FEB5EBCD86D1}" type="slidenum">
              <a:rPr b="1" lang="en-US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6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C11A-7DA2-4A8E-B7B6-1F4BC6747F80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6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2FE-E9FF-483C-8C67-DCB1A1DCE16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374-4EA7-42D6-806E-318496D9AED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41D-BF4A-4DFE-81E7-48231B6C90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397-B08B-4F50-A989-0911C83FD5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763-E3BE-4176-BB3F-1584C32680B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835C-36A2-470C-B98B-383C2FBE7F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26BC-E512-4B8E-86B7-2B5D2003A9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03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404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5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6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7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408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9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0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11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412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3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4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651-14CC-4F54-B483-FDE3FFABF8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Заголовок 1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785360" cy="209052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de by Rodion  Baranovsk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Заголовок 1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454880" cy="169992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914040" y="2835000"/>
            <a:ext cx="744372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10"/>
          <p:cNvSpPr/>
          <p:nvPr/>
        </p:nvSpPr>
        <p:spPr>
          <a:xfrm>
            <a:off x="4857840" y="71424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바탕"/>
                <a:ea typeface="바탕"/>
              </a:rPr>
              <a:t>Edinburgh is the capital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78" name="Рисунок 11" descr="images (11).jpg"/>
          <p:cNvPicPr/>
          <p:nvPr/>
        </p:nvPicPr>
        <p:blipFill>
          <a:blip r:embed="rId1"/>
          <a:stretch/>
        </p:blipFill>
        <p:spPr>
          <a:xfrm>
            <a:off x="142920" y="3786120"/>
            <a:ext cx="3857760" cy="292896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12" descr="images (12).jpg"/>
          <p:cNvPicPr/>
          <p:nvPr/>
        </p:nvPicPr>
        <p:blipFill>
          <a:blip r:embed="rId2"/>
          <a:stretch/>
        </p:blipFill>
        <p:spPr>
          <a:xfrm>
            <a:off x="142920" y="571680"/>
            <a:ext cx="3857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6"/>
          <p:cNvSpPr/>
          <p:nvPr/>
        </p:nvSpPr>
        <p:spPr>
          <a:xfrm>
            <a:off x="190440" y="785880"/>
            <a:ext cx="88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750"/>
                </a:solidFill>
                <a:latin typeface="바탕"/>
                <a:ea typeface="바탕"/>
              </a:rPr>
              <a:t>467 060 people live in Edinburg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1" name="Рисунок 9" descr="images (10).jpg"/>
          <p:cNvPicPr/>
          <p:nvPr/>
        </p:nvPicPr>
        <p:blipFill>
          <a:blip r:embed="rId1"/>
          <a:stretch/>
        </p:blipFill>
        <p:spPr>
          <a:xfrm>
            <a:off x="1571760" y="2357280"/>
            <a:ext cx="4402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6"/>
          <p:cNvSpPr/>
          <p:nvPr/>
        </p:nvSpPr>
        <p:spPr>
          <a:xfrm>
            <a:off x="190440" y="785880"/>
            <a:ext cx="88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바탕"/>
                <a:ea typeface="바탕"/>
              </a:rPr>
              <a:t>Edinburgh is located on south shore of the bay Firth of Fort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3" name="Рисунок 7" descr="images (9).jpg"/>
          <p:cNvPicPr/>
          <p:nvPr/>
        </p:nvPicPr>
        <p:blipFill>
          <a:blip r:embed="rId1"/>
          <a:stretch/>
        </p:blipFill>
        <p:spPr>
          <a:xfrm>
            <a:off x="214200" y="271476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084" name="Рисунок 8" descr="загруженное.jpg"/>
          <p:cNvPicPr/>
          <p:nvPr/>
        </p:nvPicPr>
        <p:blipFill>
          <a:blip r:embed="rId2"/>
          <a:stretch/>
        </p:blipFill>
        <p:spPr>
          <a:xfrm>
            <a:off x="4714920" y="27147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Box 3"/>
          <p:cNvSpPr/>
          <p:nvPr/>
        </p:nvSpPr>
        <p:spPr>
          <a:xfrm>
            <a:off x="4714920" y="428760"/>
            <a:ext cx="442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바탕"/>
                <a:ea typeface="바탕"/>
              </a:rPr>
              <a:t>The main areas of Edinburgh are New town  and Old tow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6" name="Рисунок 4" descr="Old-Town-Edinburgh-500x375.jpg"/>
          <p:cNvPicPr/>
          <p:nvPr/>
        </p:nvPicPr>
        <p:blipFill>
          <a:blip r:embed="rId1"/>
          <a:stretch/>
        </p:blipFill>
        <p:spPr>
          <a:xfrm>
            <a:off x="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5" descr="00c4ekpd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2"/>
          <p:cNvSpPr/>
          <p:nvPr/>
        </p:nvSpPr>
        <p:spPr>
          <a:xfrm>
            <a:off x="428760" y="571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바탕"/>
                <a:ea typeface="바탕"/>
              </a:rPr>
              <a:t>Edinburgh is famous for its museum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9" name="Рисунок 3" descr="images.jpg"/>
          <p:cNvPicPr/>
          <p:nvPr/>
        </p:nvPicPr>
        <p:blipFill>
          <a:blip r:embed="rId1"/>
          <a:stretch/>
        </p:blipFill>
        <p:spPr>
          <a:xfrm>
            <a:off x="0" y="2428920"/>
            <a:ext cx="2428920" cy="349704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" descr="images (1).jpg"/>
          <p:cNvPicPr/>
          <p:nvPr/>
        </p:nvPicPr>
        <p:blipFill>
          <a:blip r:embed="rId2"/>
          <a:stretch/>
        </p:blipFill>
        <p:spPr>
          <a:xfrm>
            <a:off x="2428920" y="2428920"/>
            <a:ext cx="2357280" cy="350028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5" descr="images (2).jpg"/>
          <p:cNvPicPr/>
          <p:nvPr/>
        </p:nvPicPr>
        <p:blipFill>
          <a:blip r:embed="rId3"/>
          <a:stretch/>
        </p:blipFill>
        <p:spPr>
          <a:xfrm>
            <a:off x="4786200" y="2428920"/>
            <a:ext cx="2143080" cy="350028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6" descr="images (3).jpg"/>
          <p:cNvPicPr/>
          <p:nvPr/>
        </p:nvPicPr>
        <p:blipFill>
          <a:blip r:embed="rId4"/>
          <a:stretch/>
        </p:blipFill>
        <p:spPr>
          <a:xfrm>
            <a:off x="6929280" y="2428920"/>
            <a:ext cx="2214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75a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4714920" y="857160"/>
            <a:ext cx="442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8f2d"/>
                </a:solidFill>
                <a:latin typeface="바탕"/>
                <a:ea typeface="바탕"/>
              </a:rPr>
              <a:t>The most famous museum of Edinburgh  is the Museum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94" name="Рисунок 2" descr="images (4).jpg"/>
          <p:cNvPicPr/>
          <p:nvPr/>
        </p:nvPicPr>
        <p:blipFill>
          <a:blip r:embed="rId1"/>
          <a:stretch/>
        </p:blipFill>
        <p:spPr>
          <a:xfrm>
            <a:off x="285840" y="3643200"/>
            <a:ext cx="4143240" cy="2784600"/>
          </a:xfrm>
          <a:prstGeom prst="rect">
            <a:avLst/>
          </a:prstGeom>
          <a:ln w="0">
            <a:noFill/>
          </a:ln>
        </p:spPr>
      </p:pic>
      <p:pic>
        <p:nvPicPr>
          <p:cNvPr id="1095" name="Рисунок 3" descr="images (5).jpg"/>
          <p:cNvPicPr/>
          <p:nvPr/>
        </p:nvPicPr>
        <p:blipFill>
          <a:blip r:embed="rId2"/>
          <a:stretch/>
        </p:blipFill>
        <p:spPr>
          <a:xfrm>
            <a:off x="285840" y="285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Box 1"/>
          <p:cNvSpPr/>
          <p:nvPr/>
        </p:nvSpPr>
        <p:spPr>
          <a:xfrm>
            <a:off x="714240" y="8571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바탕"/>
                <a:ea typeface="바탕"/>
              </a:rPr>
              <a:t>National Gallery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97" name="Рисунок 2" descr="images (6).jpg"/>
          <p:cNvPicPr/>
          <p:nvPr/>
        </p:nvPicPr>
        <p:blipFill>
          <a:blip r:embed="rId1"/>
          <a:stretch/>
        </p:blipFill>
        <p:spPr>
          <a:xfrm>
            <a:off x="357120" y="250020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098" name="Рисунок 3" descr="images (7).jpg"/>
          <p:cNvPicPr/>
          <p:nvPr/>
        </p:nvPicPr>
        <p:blipFill>
          <a:blip r:embed="rId2"/>
          <a:stretch/>
        </p:blipFill>
        <p:spPr>
          <a:xfrm>
            <a:off x="4286160" y="2500200"/>
            <a:ext cx="4673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Рисунок 1" descr="University_of_Edinburgh_logo.png"/>
          <p:cNvPicPr/>
          <p:nvPr/>
        </p:nvPicPr>
        <p:blipFill>
          <a:blip r:embed="rId1"/>
          <a:stretch/>
        </p:blipFill>
        <p:spPr>
          <a:xfrm>
            <a:off x="428760" y="2928960"/>
            <a:ext cx="3511440" cy="28573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2"/>
          <p:cNvSpPr/>
          <p:nvPr/>
        </p:nvSpPr>
        <p:spPr>
          <a:xfrm>
            <a:off x="571680" y="7142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  <a:ea typeface="바탕"/>
              </a:rPr>
              <a:t>University of Edinburg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01" name="Рисунок 3" descr="images (8).jpg"/>
          <p:cNvPicPr/>
          <p:nvPr/>
        </p:nvPicPr>
        <p:blipFill>
          <a:blip r:embed="rId2"/>
          <a:stretch/>
        </p:blipFill>
        <p:spPr>
          <a:xfrm>
            <a:off x="4357800" y="3000240"/>
            <a:ext cx="4100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1:00:02Z</dcterms:created>
  <dc:creator>Родиоша</dc:creator>
  <dc:description/>
  <dc:language>en-US</dc:language>
  <cp:lastModifiedBy>Vovan</cp:lastModifiedBy>
  <dcterms:modified xsi:type="dcterms:W3CDTF">2012-05-09T15:12:49Z</dcterms:modified>
  <cp:revision>22</cp:revision>
  <dc:subject/>
  <dc:title>Слайд 1</dc:title>
</cp:coreProperties>
</file>